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9DA-30B6-4E66-8B53-50484A3A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5EF-6ADB-480D-9B89-2C2B232B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3CA-A1D1-4DCB-BAAA-C89C3734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60F-C9DA-4B92-83DB-74A66C7F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750-EDE7-4617-930E-55DF3407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7DA-1BD0-4316-9510-D7EDF416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097-C624-46C9-BA17-4B8B72C4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C06-18D9-41D2-BC04-E07370F8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05B-9146-49F6-A7C2-59AF6F88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449-6B0F-4C6C-93F8-8947082A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A34-2AB6-4D83-B0F5-CE3E74DA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709-FA2F-4FCD-8D1D-BCDBF2FF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004A-FE5D-4DF0-9818-8CE66D9E7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66960" y="3170160"/>
            <a:ext cx="1810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Dialog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52480" y="685800"/>
            <a:ext cx="5562720" cy="5486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1828800"/>
            <a:ext cx="3124080" cy="312408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666960" y="3170160"/>
            <a:ext cx="1810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Dialog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6858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4343400"/>
            <a:ext cx="914400" cy="7621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286000" y="4343400"/>
            <a:ext cx="990720" cy="6858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49400">
            <a:off x="2963520" y="2306160"/>
            <a:ext cx="685800" cy="914400"/>
          </a:xfrm>
          <a:prstGeom prst="upDownArrow">
            <a:avLst>
              <a:gd name="adj1" fmla="val 50000"/>
              <a:gd name="adj2" fmla="val 26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3103800">
            <a:off x="5371920" y="2323800"/>
            <a:ext cx="685800" cy="914400"/>
          </a:xfrm>
          <a:prstGeom prst="upDownArrow">
            <a:avLst>
              <a:gd name="adj1" fmla="val 50000"/>
              <a:gd name="adj2" fmla="val 26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4114440" y="3962160"/>
            <a:ext cx="685800" cy="990360"/>
          </a:xfrm>
          <a:prstGeom prst="upDownArrow">
            <a:avLst>
              <a:gd name="adj1" fmla="val 50000"/>
              <a:gd name="adj2" fmla="val 287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52480" y="685800"/>
            <a:ext cx="5562720" cy="5486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828800"/>
            <a:ext cx="3124080" cy="312408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6858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4343400"/>
            <a:ext cx="914400" cy="7621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 rot="3581400">
            <a:off x="5714640" y="2057400"/>
            <a:ext cx="1285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Po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 rot="3103800">
            <a:off x="5371920" y="2323800"/>
            <a:ext cx="685800" cy="914400"/>
          </a:xfrm>
          <a:prstGeom prst="upDownArrow">
            <a:avLst>
              <a:gd name="adj1" fmla="val 50000"/>
              <a:gd name="adj2" fmla="val 26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666960" y="3170160"/>
            <a:ext cx="1810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Dialog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52480" y="685800"/>
            <a:ext cx="5562720" cy="5486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1828800"/>
            <a:ext cx="3124080" cy="312408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6858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86000" y="4343400"/>
            <a:ext cx="990720" cy="6858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17748000">
            <a:off x="1886040" y="2228400"/>
            <a:ext cx="14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Cul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 rot="18449400">
            <a:off x="2963520" y="2306160"/>
            <a:ext cx="685800" cy="914400"/>
          </a:xfrm>
          <a:prstGeom prst="upDownArrow">
            <a:avLst>
              <a:gd name="adj1" fmla="val 50000"/>
              <a:gd name="adj2" fmla="val 26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666960" y="3170160"/>
            <a:ext cx="1810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Dialog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52480" y="685800"/>
            <a:ext cx="5562720" cy="5486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1828800"/>
            <a:ext cx="3124080" cy="312408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4343400"/>
            <a:ext cx="914400" cy="7621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86000" y="4343400"/>
            <a:ext cx="990720" cy="6858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352680" y="495288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Archite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4114440" y="3962160"/>
            <a:ext cx="685800" cy="990360"/>
          </a:xfrm>
          <a:prstGeom prst="upDownArrow">
            <a:avLst>
              <a:gd name="adj1" fmla="val 50000"/>
              <a:gd name="adj2" fmla="val 287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666960" y="3170160"/>
            <a:ext cx="1810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Dialog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52480" y="685800"/>
            <a:ext cx="5562720" cy="548640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666960" y="3170160"/>
            <a:ext cx="1810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Dialog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76720" y="152280"/>
            <a:ext cx="2286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on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52480" y="685800"/>
            <a:ext cx="5562720" cy="548640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1828800"/>
            <a:ext cx="3124080" cy="312408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666960" y="3170160"/>
            <a:ext cx="1810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Dialog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6858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4343400"/>
            <a:ext cx="914400" cy="7621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286000" y="4343400"/>
            <a:ext cx="990720" cy="6858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 rot="3581400">
            <a:off x="5714640" y="2057400"/>
            <a:ext cx="1285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Po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352680" y="495288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Archite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 rot="17748000">
            <a:off x="1886040" y="2228400"/>
            <a:ext cx="14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Cul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 rot="18449400">
            <a:off x="2963520" y="2306160"/>
            <a:ext cx="685800" cy="914400"/>
          </a:xfrm>
          <a:prstGeom prst="upDownArrow">
            <a:avLst>
              <a:gd name="adj1" fmla="val 50000"/>
              <a:gd name="adj2" fmla="val 26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3103800">
            <a:off x="5371920" y="2323800"/>
            <a:ext cx="685800" cy="914400"/>
          </a:xfrm>
          <a:prstGeom prst="upDownArrow">
            <a:avLst>
              <a:gd name="adj1" fmla="val 50000"/>
              <a:gd name="adj2" fmla="val 26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4114440" y="3962160"/>
            <a:ext cx="685800" cy="990360"/>
          </a:xfrm>
          <a:prstGeom prst="upDownArrow">
            <a:avLst>
              <a:gd name="adj1" fmla="val 50000"/>
              <a:gd name="adj2" fmla="val 287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9902000">
            <a:off x="2897640" y="1086480"/>
            <a:ext cx="2830320" cy="217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43" y="472"/>
                </a:moveTo>
                <a:arcTo wR="10800" hR="10800" stAng="-6419651" swAng="6335381"/>
                <a:lnTo>
                  <a:pt x="10800" y="10800"/>
                </a:lnTo>
                <a:close/>
              </a:path>
              <a:path fill="none" w="21600" h="21600">
                <a:moveTo>
                  <a:pt x="7643" y="472"/>
                </a:moveTo>
                <a:arcTo wR="10800" hR="10800" stAng="-6419651" swAng="6335381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4859400">
            <a:off x="4090680" y="2538360"/>
            <a:ext cx="304632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84" y="230"/>
                </a:moveTo>
                <a:arcTo wR="10800" hR="10800" stAng="-6110456" swAng="5273446"/>
                <a:lnTo>
                  <a:pt x="10800" y="10800"/>
                </a:lnTo>
                <a:close/>
              </a:path>
              <a:path fill="none" w="21600" h="21600">
                <a:moveTo>
                  <a:pt x="8584" y="230"/>
                </a:moveTo>
                <a:arcTo wR="10800" hR="10800" stAng="-6110456" swAng="5273446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2805800">
            <a:off x="2104920" y="3085920"/>
            <a:ext cx="304524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09" y="90"/>
                </a:moveTo>
                <a:arcTo wR="10800" hR="10800" stAng="-5844105" swAng="5829525"/>
                <a:lnTo>
                  <a:pt x="10800" y="10800"/>
                </a:lnTo>
                <a:close/>
              </a:path>
              <a:path fill="none" w="21600" h="21600">
                <a:moveTo>
                  <a:pt x="9409" y="90"/>
                </a:moveTo>
                <a:arcTo wR="10800" hR="10800" stAng="-5844105" swAng="5829525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76720" y="152280"/>
            <a:ext cx="2286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on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22:33:18Z</dcterms:created>
  <dc:creator>Faculty</dc:creator>
  <dc:description/>
  <dc:language>en-US</dc:language>
  <cp:lastModifiedBy>Mark Reed Stoner</cp:lastModifiedBy>
  <dcterms:modified xsi:type="dcterms:W3CDTF">2006-03-09T10:45:18Z</dcterms:modified>
  <cp:revision>5</cp:revision>
  <dc:subject/>
  <dc:title>Slide 1</dc:title>
</cp:coreProperties>
</file>